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D2C-1B3B-430A-A74C-C782FE6B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277-837F-4AE3-838E-B9D043C8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480-BA17-4965-A1D1-A9426F46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FCD-B2FD-4C74-96AD-BD504C17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7AF-E58D-4207-8309-2AE3438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26B-4CEC-4D92-98A0-19EFC3C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25F-B73E-4216-B202-E709EF8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9F4-CE2B-4DE4-90CE-D4361B78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BBD-4D5D-4EEA-AD59-3AC3D95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B6B-1B03-495E-9836-2642B457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1C7-7E0C-4D13-BC2D-F556E4C1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902-859A-4ABA-ADCB-8114994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905-9EEB-4969-9DC9-82137189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7ACF-EF35-4501-8DDE-BD2BDA3B1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 Assessmen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685800" y="11174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glish Language Art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685800" y="1832040"/>
            <a:ext cx="7620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64296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 Report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077320" cy="4649760"/>
        </p:xfrm>
        <a:graphic>
          <a:graphicData uri="http://schemas.openxmlformats.org/drawingml/2006/table">
            <a:tbl>
              <a:tblPr/>
              <a:tblGrid>
                <a:gridCol w="2319480"/>
                <a:gridCol w="2214360"/>
                <a:gridCol w="2197080"/>
                <a:gridCol w="1346400"/>
              </a:tblGrid>
              <a:tr h="9288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LA Reporting Framework, Clusters, and Cate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Reporting Category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29844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en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Literature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Informational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ore Competen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Key Ideas and Details [Key Idea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K/B–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raft and Structure, and Integration of Knowledge and Ideas [CS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C/B–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Vocabulary Acquisition and Use [Vocabulary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A–V/B–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2"/>
          <p:cNvSpPr/>
          <p:nvPr/>
        </p:nvSpPr>
        <p:spPr>
          <a:xfrm>
            <a:off x="490680" y="11397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em Types and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30320" y="1846440"/>
          <a:ext cx="5283360" cy="2179440"/>
        </p:xfrm>
        <a:graphic>
          <a:graphicData uri="http://schemas.openxmlformats.org/drawingml/2006/table">
            <a:tbl>
              <a:tblPr/>
              <a:tblGrid>
                <a:gridCol w="3291120"/>
                <a:gridCol w="707760"/>
                <a:gridCol w="12844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rad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core passag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core standalon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2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poi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3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core 3 pt SA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WP (weighted x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9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2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63800" y="4191120"/>
          <a:ext cx="5283000" cy="2071440"/>
        </p:xfrm>
        <a:graphic>
          <a:graphicData uri="http://schemas.openxmlformats.org/drawingml/2006/table">
            <a:tbl>
              <a:tblPr/>
              <a:tblGrid>
                <a:gridCol w="3259080"/>
                <a:gridCol w="708120"/>
                <a:gridCol w="131580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Grades 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3 core passag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3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core standalone MC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8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 core 2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 core 3 pt EBS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9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TDA (weighted x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6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 core 4 pt WP (weighted x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2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4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2"/>
          <p:cNvSpPr/>
          <p:nvPr/>
        </p:nvSpPr>
        <p:spPr>
          <a:xfrm>
            <a:off x="457200" y="103356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e 3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752480"/>
          <a:ext cx="8305920" cy="4875480"/>
        </p:xfrm>
        <a:graphic>
          <a:graphicData uri="http://schemas.openxmlformats.org/drawingml/2006/table">
            <a:tbl>
              <a:tblPr/>
              <a:tblGrid>
                <a:gridCol w="900360"/>
                <a:gridCol w="1512720"/>
                <a:gridCol w="1200240"/>
                <a:gridCol w="1890720"/>
                <a:gridCol w="1299960"/>
                <a:gridCol w="1501920"/>
              </a:tblGrid>
              <a:tr h="11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Conten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MC/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WP/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Number of Pa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Section Testing Time (in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83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–12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3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4–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4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8–12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3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4–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696960" y="99072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es 4-8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004840"/>
          <a:ext cx="8305920" cy="4700880"/>
        </p:xfrm>
        <a:graphic>
          <a:graphicData uri="http://schemas.openxmlformats.org/drawingml/2006/table">
            <a:tbl>
              <a:tblPr/>
              <a:tblGrid>
                <a:gridCol w="768240"/>
                <a:gridCol w="1889280"/>
                <a:gridCol w="1220760"/>
                <a:gridCol w="1703520"/>
                <a:gridCol w="1315800"/>
                <a:gridCol w="1408320"/>
              </a:tblGrid>
              <a:tr h="118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Content 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MC/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Number of WP/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Number of Pa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Estimated Section Testing Time (in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Writing and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0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5–18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–5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58–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4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ヒラギノ角ゴ Pro W3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736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Reading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Text Depend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5–8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–2 EB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 W3"/>
                        </a:rPr>
                        <a:t>48–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ade 4 Evidence Based Selected Response (3 pts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khelm\AppData\Local\Microsoft\Windows\Temporary Internet Files\Content.Outlook\0US3TGUC\Smpl_Reading_G4_ESR3_Paper (2)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2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83016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8 Language Multiple Choice (1 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dsimaska\Desktop\Getting Ready\ELAG8MC.jpg"/>
          <p:cNvPicPr/>
          <p:nvPr/>
        </p:nvPicPr>
        <p:blipFill>
          <a:blip r:embed="rId1"/>
          <a:stretch/>
        </p:blipFill>
        <p:spPr>
          <a:xfrm>
            <a:off x="228600" y="2457360"/>
            <a:ext cx="8686800" cy="26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Grade 7 Writing Prom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 pts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dsimaska\Desktop\Getting Ready\ELAG7prompt.jpg"/>
          <p:cNvPicPr/>
          <p:nvPr/>
        </p:nvPicPr>
        <p:blipFill>
          <a:blip r:embed="rId1"/>
          <a:stretch/>
        </p:blipFill>
        <p:spPr>
          <a:xfrm>
            <a:off x="528480" y="2590920"/>
            <a:ext cx="8229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921960"/>
            <a:ext cx="84582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Grade 7 Text Dependent Analysis Essay (4 p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dsimaska\Desktop\Getting Ready\ELAG7TDA_print.jpg"/>
          <p:cNvPicPr/>
          <p:nvPr/>
        </p:nvPicPr>
        <p:blipFill>
          <a:blip r:embed="rId1"/>
          <a:stretch/>
        </p:blipFill>
        <p:spPr>
          <a:xfrm>
            <a:off x="1689120" y="1600200"/>
            <a:ext cx="576576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6858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Are TDA Responses Sco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401760" y="2751120"/>
            <a:ext cx="82850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7628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stone Ex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combined with Writ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E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combined with Read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E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SSA M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eparate booklet and test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762120" y="1235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ne 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600200" y="160020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SSA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essme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838080" y="1981080"/>
            <a:ext cx="733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d"/>
                </a:solidFill>
                <a:latin typeface="Wingdings-Regula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s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T = Numbers and Operations in Base Ten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F = Numbers and Operations – Fractions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N = The Number System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‐R = Ratios and Proportional Relationships (Grades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lgebra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O = Operations and Algebraic Thinking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E = Expressions and Equations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‐F = Functions (Grade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‐G = Geometry (Grades 3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ata Analysis and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‐M = Measurement and Data (Grades 3–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‐S = Statistics and Probability (Grades 6–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290600" y="1106640"/>
            <a:ext cx="618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ort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Title 3"/>
          <p:cNvSpPr/>
          <p:nvPr/>
        </p:nvSpPr>
        <p:spPr>
          <a:xfrm>
            <a:off x="4572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em Types and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6"/>
          <p:cNvSpPr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490760" y="3429000"/>
            <a:ext cx="60958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762120" y="135576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609480" y="1417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h 2015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334800" y="2362320"/>
            <a:ext cx="83217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sp>
        <p:nvSpPr>
          <p:cNvPr id="115" name="Title 1"/>
          <p:cNvSpPr/>
          <p:nvPr/>
        </p:nvSpPr>
        <p:spPr>
          <a:xfrm>
            <a:off x="609480" y="12952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h 2015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8334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blue 50% banner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49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015 PSSA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Education-rgb"/>
          <p:cNvPicPr/>
          <p:nvPr/>
        </p:nvPicPr>
        <p:blipFill>
          <a:blip r:embed="rId2"/>
          <a:stretch/>
        </p:blipFill>
        <p:spPr>
          <a:xfrm>
            <a:off x="6400800" y="5851440"/>
            <a:ext cx="2305080" cy="54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685800" y="1865160"/>
            <a:ext cx="777240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0:35:02Z</dcterms:created>
  <dc:creator>aforsman</dc:creator>
  <dc:description/>
  <dc:language>en-US</dc:language>
  <cp:lastModifiedBy>Diahann Snisky</cp:lastModifiedBy>
  <cp:lastPrinted>2014-09-17T13:54:57Z</cp:lastPrinted>
  <dcterms:modified xsi:type="dcterms:W3CDTF">2014-10-21T13:10:59Z</dcterms:modified>
  <cp:revision>29</cp:revision>
  <dc:subject/>
  <dc:title>Slide 1</dc:title>
</cp:coreProperties>
</file>